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8CD-AE3C-41A5-85CF-8E083C48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A6C6-782B-4D39-8DE3-08B4E8F0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B80-869E-4371-956C-7264D3DF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12A-E5B9-49B6-93AA-D0C7DC69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6C2D-68A1-4ECC-80A6-329F00FF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812C-093E-4351-872B-0B9C205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6350-393D-4EF4-BC0B-9FCA207F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9101-DFE0-4D10-B210-03A78E27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576D-9B9F-41E2-BF0D-55560E51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0083-D968-4DF8-B7DF-A533221E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EF33-5D5D-41B6-882C-867F9E0C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9EE-B128-4F82-8FB1-75AFAE0E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B3EE-050B-4837-BF36-1DD43BD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2F23-830E-4BAC-BAF1-C0C76B0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EFD6-E6CD-48D7-AC1F-4AC65C80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7F20-FD49-4C4F-A6AE-E4492AE5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9137-B075-4B9C-80B5-3047BD91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16BF9-AEDB-4AB0-9AD8-FFFAC224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A752E-FC7B-4C1A-870B-40F9E4EE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E5C7C-4158-40E8-932E-D7500FA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0FF8-3C44-43CC-B106-A714782F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7035-A7C4-4082-8318-946A70F2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A07-85F0-4CBD-9A59-F59F1F7C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CB45-FA03-4021-A91E-2ECE3B65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C095-77FA-4EAD-8654-F5AEC3A9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C9916-2971-4DF2-9FE8-1AD74D0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B4F7D-DA82-4C04-8FB6-AED66D94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C7A1-E499-47B2-BF2F-5A3AFC84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103B-F5D8-4728-BB61-87D1D5D9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893ED-1454-4061-8C98-8C763C0E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F9212-DCC8-40F9-90B6-F585D9BF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2CA9-3750-4B57-90AA-AC9A259D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4AE6-ADF3-4D21-9C15-F224DAAA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60E-A0ED-43CA-9560-AEE7DC87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4FBC-590C-4317-8A61-5A54AA7B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3BD94-F57E-488D-B138-A5267094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1E78-35E8-40E6-A000-5C0C82DB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F310D-E1A2-4B70-8C71-2F0E2C80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F7B63-F33A-4AC1-B079-82638CBC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5BB4-5650-4053-A08D-B68D4571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C489-E021-4B5B-85A5-2D6F8BA7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E43EE-ED35-46A1-960A-067B2D83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6481C-5609-4373-95D1-3C7CCE11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162-C2C2-4ECC-AF3A-0253F16B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6D7-4E9E-4290-8A49-91FACC8C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900-5A24-46DE-B78E-3C33B217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90C-FDF5-46BF-87C7-BD52084B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C19-0977-42AB-9E97-F04C5059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5F16-D867-4C38-9B02-3E9E3C6B8A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8586-8DE6-47EC-BEC7-F004318F2D2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D7BE-2544-4CFD-8B13-ADB56D3710D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3198-8035-4FA5-A0EF-BA703CA6052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cnx.org%2Fcontents%2Fd50f33f7-a993-4f12-b841-7d0db2a4f556%404&amp;ei=55afVdCqIcLSU9mqgEg&amp;bvm=bv.97653015,d.bGQ&amp;psig=AFQjCNFEbn5wB370nfv6rkptHx5Vv9_t3A&amp;ust=1436607776264353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w&amp;url=http%3A%2F%2Fwww.nature.com%2Fonc%2Fjournal%2Fv27%2Fn53%2Ffig_tab%2Fonc2008276f1.html&amp;ei=F5mfVeTwAoX8UJS7r6AL&amp;bvm=bv.97653015,d.bGQ&amp;psig=AFQjCNE4nRac-JaezWPY2MMuailDOUzJDg&amp;ust=1436609127015107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cec0c"/>
                </a:solidFill>
                <a:latin typeface="Arial"/>
              </a:rPr>
              <a:t>3. </a:t>
            </a:r>
            <a:r>
              <a:rPr b="1" lang="sr-CS" sz="5000" spc="-1" strike="noStrike">
                <a:solidFill>
                  <a:srgbClr val="ecec0c"/>
                </a:solidFill>
                <a:latin typeface="Arial"/>
              </a:rPr>
              <a:t>ГЕНЕТ</a:t>
            </a:r>
            <a:r>
              <a:rPr b="1" lang="en-US" sz="5000" spc="-1" strike="noStrike">
                <a:solidFill>
                  <a:srgbClr val="ecec0c"/>
                </a:solidFill>
                <a:latin typeface="Arial"/>
              </a:rPr>
              <a:t>ИЧ</a:t>
            </a:r>
            <a:r>
              <a:rPr b="1" lang="sr-CS" sz="5000" spc="-1" strike="noStrike">
                <a:solidFill>
                  <a:srgbClr val="ecec0c"/>
                </a:solidFill>
                <a:latin typeface="Arial"/>
              </a:rPr>
              <a:t>КЕ РЕКОМБИНАЦИЈЕ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Мејотички кросинг-овер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43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ља размену одговарајућих делова хомологих хромозома у току мејотичке деобе на ступњу хромозомских тетрада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иње у пахитену, услед чега се у диплотену формирају хијазме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између несестринских хромат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http://cnx.org/resources/d1d6d40eb129082294e3e2efc4af49777c9b9524/Figure_07_02_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844640"/>
            <a:ext cx="3291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crossing-over-1"/>
          <p:cNvPicPr/>
          <p:nvPr/>
        </p:nvPicPr>
        <p:blipFill>
          <a:blip r:embed="rId1"/>
          <a:srcRect l="0" t="0" r="0" b="8564"/>
          <a:stretch/>
        </p:blipFill>
        <p:spPr>
          <a:xfrm>
            <a:off x="250920" y="2205000"/>
            <a:ext cx="6121440" cy="4103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539640" y="439560"/>
            <a:ext cx="7920000" cy="1068840"/>
          </a:xfrm>
          <a:prstGeom prst="rect">
            <a:avLst/>
          </a:prstGeom>
          <a:solidFill>
            <a:srgbClr val="fbdad1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јотички кросинг-овер је извор генетичке разноврсности гамета 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619280" y="5229360"/>
            <a:ext cx="1008000" cy="337320"/>
          </a:xfrm>
          <a:prstGeom prst="rect">
            <a:avLst/>
          </a:prstGeom>
          <a:solidFill>
            <a:srgbClr val="20c9f8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Гам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6502320" y="2421000"/>
            <a:ext cx="2232000" cy="381636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место два типа гамета услед дешавањ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о. настају четири типа га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0000"/>
                </a:solidFill>
                <a:latin typeface="Arial"/>
              </a:rPr>
              <a:t>Гамети 2 и 3 су настали услед  дешавања к.о.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 садрже нове комбинације г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ff"/>
                </a:solidFill>
                <a:latin typeface="Arial"/>
              </a:rPr>
              <a:t>Гамети 1 и 4 су настали  без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sr-RS" sz="1800" spc="-1" strike="noStrike">
                <a:solidFill>
                  <a:srgbClr val="0000ff"/>
                </a:solidFill>
                <a:latin typeface="Arial"/>
              </a:rPr>
              <a:t>.о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627280" y="6237360"/>
            <a:ext cx="360360" cy="28728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3635280" y="6237360"/>
            <a:ext cx="360360" cy="287280"/>
          </a:xfrm>
          <a:prstGeom prst="ellipse">
            <a:avLst/>
          </a:prstGeom>
          <a:solidFill>
            <a:srgbClr val="fbdad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4356000" y="6237360"/>
            <a:ext cx="360360" cy="287280"/>
          </a:xfrm>
          <a:prstGeom prst="ellipse">
            <a:avLst/>
          </a:prstGeom>
          <a:solidFill>
            <a:srgbClr val="fbdad1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5219640" y="6237360"/>
            <a:ext cx="360360" cy="28728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Митотички кросинг-овер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388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шава се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есним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оматск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ћелијама у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G2 фаз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нтерфа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ада долази до размене одговарајућих сегменат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еђу хроматидама једног хромозо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сестринске хроматид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итотички к.о. представљ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ff"/>
                </a:solidFill>
                <a:latin typeface="Arial"/>
              </a:rPr>
              <a:t>пострепликативни репаративни механиз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2" descr="http://www.nature.com/onc/journal/v27/n53/images/onc2008276f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1484280"/>
            <a:ext cx="3958920" cy="41767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4"/>
          <p:cNvSpPr/>
          <p:nvPr/>
        </p:nvSpPr>
        <p:spPr>
          <a:xfrm>
            <a:off x="3978360" y="5516640"/>
            <a:ext cx="5003640" cy="1052280"/>
          </a:xfrm>
          <a:prstGeom prst="rect">
            <a:avLst/>
          </a:prstGeom>
          <a:solidFill>
            <a:srgbClr val="dbf5f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трелице показују хромозоме у којима се десила размена међу сестринским хроматидама (РСХ или 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SCE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640" y="90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 учесталос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о. могу да утич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поред генетичких фактора, и средински фактори као што су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92360" y="2276280"/>
            <a:ext cx="6121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. старост испита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2. пол испита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. хемијски 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.  физички аген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и који се налазе на истом хромозому и који се заједно (везано) преносе у наредну генерацију називају се </a:t>
            </a:r>
            <a:r>
              <a:rPr b="0" lang="sr-C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везани г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ине које детерминишу везани гени називају се </a:t>
            </a:r>
            <a:r>
              <a:rPr b="0" lang="sr-C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везане (корелативне) особ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68360" y="692280"/>
            <a:ext cx="777564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2060"/>
                </a:solidFill>
                <a:latin typeface="Arial"/>
              </a:rPr>
              <a:t>Кросинг-овер у мапирању гена у хромоз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ност  гена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није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апсолутна, везани гени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гу да буду раздвојени кросинг-овером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6" descr="15-05a-RecombGametes-L"/>
          <p:cNvPicPr/>
          <p:nvPr/>
        </p:nvPicPr>
        <p:blipFill>
          <a:blip r:embed="rId1"/>
          <a:stretch/>
        </p:blipFill>
        <p:spPr>
          <a:xfrm>
            <a:off x="900000" y="2708280"/>
            <a:ext cx="73137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стоји корелација између раздаљине гена на хромозому и фреквенце дешавањ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.о.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0" name="Picture 5" descr="15-06-RecombFrequencies-L"/>
          <p:cNvPicPr/>
          <p:nvPr/>
        </p:nvPicPr>
        <p:blipFill>
          <a:blip r:embed="rId1"/>
          <a:stretch/>
        </p:blipFill>
        <p:spPr>
          <a:xfrm>
            <a:off x="826920" y="4149720"/>
            <a:ext cx="7313760" cy="2016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324000" y="2276640"/>
            <a:ext cx="8516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Што су два гена у хромозому удаљен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већи је % дешавања коросинг-овер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 њих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09480" y="620640"/>
            <a:ext cx="83822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Јединица за растојање ме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у генима је % дешавања кросинг-ов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мас Морган је први уочио да постоји корелација између растојања два везана гена и фреквенце дешавања кросинг-ове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 да је јединица: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% c.о. = </a:t>
            </a:r>
            <a:r>
              <a:rPr b="1" lang="sr-Latn-CS" sz="2400" spc="-1" strike="noStrike">
                <a:solidFill>
                  <a:srgbClr val="cc0099"/>
                </a:solidFill>
                <a:latin typeface="Arial"/>
              </a:rPr>
              <a:t>1 центиморган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 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Мапирање  два везана ге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10_17"/>
          <p:cNvPicPr/>
          <p:nvPr/>
        </p:nvPicPr>
        <p:blipFill>
          <a:blip r:embed="rId1"/>
          <a:stretch/>
        </p:blipFill>
        <p:spPr>
          <a:xfrm>
            <a:off x="611280" y="1628640"/>
            <a:ext cx="7991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пирање т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на ген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rosing-over"/>
          <p:cNvPicPr/>
          <p:nvPr/>
        </p:nvPicPr>
        <p:blipFill>
          <a:blip r:embed="rId1"/>
          <a:stretch/>
        </p:blipFill>
        <p:spPr>
          <a:xfrm>
            <a:off x="3348000" y="333360"/>
            <a:ext cx="54831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4596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Рекомбинациј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у извор варијабилности у живом свету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42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ју нове комбинац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ећих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а  у хромозо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Могу да буд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1. Хомоло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размена хомологих сегмената између два хомолога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Специјализован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е на извесне регионе хромозо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ранспози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и сегменти ДНК мењају свој полож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транспоз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е појаве које ремете мапирање гена посредством кросинг-овера су: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8218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Интерференција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а да дешавање к.о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 једном крају хромоз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мањује могућност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њего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ешава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на другом крају хромоз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Коинциденција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а да дешавање к.о. на једном крају хромозома повећава вероватноћу његовог дешавања на другом к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хромоз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% dvostr.c.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j.c.o. x % j.c.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+I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1280" y="335736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dbf5f9"/>
                </a:solidFill>
                <a:latin typeface="Arial"/>
              </a:rPr>
              <a:t>ГЕНЕТИЧКЕ РЕКОМБИН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и који се налазе на истом хромозому и који се заједно (везано) преносе у наредну генерацију називају се </a:t>
            </a:r>
            <a:r>
              <a:rPr b="0" lang="sr-C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везани г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бине које детерминишу везани гени називају се </a:t>
            </a:r>
            <a:r>
              <a:rPr b="0" lang="sr-C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везане (корелативне) особи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68360" y="692280"/>
            <a:ext cx="777564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2060"/>
                </a:solidFill>
                <a:latin typeface="Arial"/>
              </a:rPr>
              <a:t>Кросинг-овер у мапирању гена у хромозо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аност  гена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није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апсолутна, везани гени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гу да буду раздвојени кросинг-овером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15-05a-RecombGametes-L"/>
          <p:cNvPicPr/>
          <p:nvPr/>
        </p:nvPicPr>
        <p:blipFill>
          <a:blip r:embed="rId2"/>
          <a:stretch/>
        </p:blipFill>
        <p:spPr>
          <a:xfrm>
            <a:off x="900000" y="2708280"/>
            <a:ext cx="73137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остоји корелација између раздаљине гена на хромозому и фреквенце дешавањ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.о.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46" name="Picture 5" descr="15-06-RecombFrequencies-L"/>
          <p:cNvPicPr/>
          <p:nvPr/>
        </p:nvPicPr>
        <p:blipFill>
          <a:blip r:embed="rId2"/>
          <a:stretch/>
        </p:blipFill>
        <p:spPr>
          <a:xfrm>
            <a:off x="826920" y="3068640"/>
            <a:ext cx="7313760" cy="30970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0" y="1197000"/>
            <a:ext cx="9144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Што су два гена у хромозому удаљенија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70c0"/>
                </a:solidFill>
                <a:latin typeface="Arial"/>
                <a:ea typeface="Times New Roman"/>
              </a:rPr>
              <a:t>већи је % дешавања коросинг-овера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ђу њих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480" y="620640"/>
            <a:ext cx="7778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Јединица за растојање ме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у генима је </a:t>
            </a:r>
            <a:r>
              <a:rPr b="0" lang="sr-RS" sz="2400" spc="-1" strike="noStrike">
                <a:solidFill>
                  <a:srgbClr val="0070c0"/>
                </a:solidFill>
                <a:latin typeface="Arial"/>
              </a:rPr>
              <a:t>проценат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70c0"/>
                </a:solidFill>
                <a:latin typeface="Arial"/>
              </a:rPr>
              <a:t>дешавања кросинг-ов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1% c.о. = </a:t>
            </a:r>
            <a:r>
              <a:rPr b="1" lang="sr-Latn-CS" sz="2400" spc="-1" strike="noStrike">
                <a:solidFill>
                  <a:srgbClr val="cc0099"/>
                </a:solidFill>
                <a:latin typeface="Arial"/>
              </a:rPr>
              <a:t>1 центиморган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>
            <a:alphaModFix amt="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3" descr=""/>
          <p:cNvPicPr/>
          <p:nvPr/>
        </p:nvPicPr>
        <p:blipFill>
          <a:blip r:embed="rId2"/>
          <a:stretch/>
        </p:blipFill>
        <p:spPr>
          <a:xfrm>
            <a:off x="469800" y="1316160"/>
            <a:ext cx="8204400" cy="13665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780000" y="3357360"/>
            <a:ext cx="1584000" cy="25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4.5.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620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комбинације сусрећемо на свим нивоима организације живе материје, код: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убцелуларних организам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кари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укарио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Субцелуларни организми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вируси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олико истовремено једну ћелију инфицирају два виру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:    АБ  х а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:  АБ,    аб,  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Аб,    аБ                             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рекомбинантн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 једи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Прокариоте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екомбинациони механизми код бактерија су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оњугациј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ансвер генетичког материјала се остварује директним контактом две бактеријске ћели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рансформациј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ансвер слободних сегмената ДНК из једне у другу бактеријску ћелиј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рши се без њиховог директног контакт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r-CS" sz="2600" spc="-1" strike="noStrike">
                <a:solidFill>
                  <a:srgbClr val="0000ff"/>
                </a:solidFill>
                <a:latin typeface="Arial"/>
              </a:rPr>
              <a:t>рансдукциј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рансвер сегмената ДНК обавља се помоћу вектор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sf14x1box"/>
          <p:cNvPicPr/>
          <p:nvPr/>
        </p:nvPicPr>
        <p:blipFill>
          <a:blip r:embed="rId1"/>
          <a:srcRect l="0" t="2587" r="25323" b="0"/>
          <a:stretch/>
        </p:blipFill>
        <p:spPr>
          <a:xfrm>
            <a:off x="4724280" y="762120"/>
            <a:ext cx="3397320" cy="5738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ff"/>
                </a:solidFill>
                <a:latin typeface="Arial"/>
              </a:rPr>
              <a:t>1. Коњуг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ктерија донор (</a:t>
            </a:r>
            <a:r>
              <a:rPr b="1" lang="en-US" sz="2400" spc="-1" strike="noStrike">
                <a:solidFill>
                  <a:srgbClr val="c60063"/>
                </a:solidFill>
                <a:latin typeface="Arial"/>
              </a:rPr>
              <a:t>F+,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ктерија рецептор (</a:t>
            </a:r>
            <a:r>
              <a:rPr b="1" lang="en-US" sz="2400" spc="-1" strike="noStrike">
                <a:solidFill>
                  <a:srgbClr val="c60063"/>
                </a:solidFill>
                <a:latin typeface="Arial"/>
              </a:rPr>
              <a:t>F</a:t>
            </a:r>
            <a:r>
              <a:rPr b="1" lang="sr-CS" sz="2400" spc="-1" strike="noStrike">
                <a:solidFill>
                  <a:srgbClr val="c60063"/>
                </a:solidFill>
                <a:latin typeface="Arial"/>
              </a:rPr>
              <a:t>-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топлазматски мост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90 мин траје коњугација код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co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иница за растојање међу ген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је временск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</a:rPr>
              <a:t>мину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4884120" y="685800"/>
            <a:ext cx="11667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60063"/>
                </a:solidFill>
                <a:latin typeface="Arial"/>
              </a:rPr>
              <a:t>Донор Ф</a:t>
            </a:r>
            <a:r>
              <a:rPr b="1" lang="en-US" sz="1600" spc="-1" strike="noStrike">
                <a:solidFill>
                  <a:srgbClr val="c60063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6713280" y="762120"/>
            <a:ext cx="14320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60063"/>
                </a:solidFill>
                <a:latin typeface="Arial"/>
              </a:rPr>
              <a:t>Рецептор Ф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5037480" y="1981080"/>
            <a:ext cx="10706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c60063"/>
                </a:solidFill>
                <a:latin typeface="Arial"/>
              </a:rPr>
              <a:t>Плазм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7093440" y="1981080"/>
            <a:ext cx="1605600" cy="246240"/>
          </a:xfrm>
          <a:prstGeom prst="rect">
            <a:avLst/>
          </a:prstGeom>
          <a:solidFill>
            <a:srgbClr val="ffff00"/>
          </a:solidFill>
          <a:ln w="9360">
            <a:solidFill>
              <a:srgbClr val="c600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c60063"/>
                </a:solidFill>
                <a:latin typeface="Arial"/>
              </a:rPr>
              <a:t>Бактеријски хромоз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Трансформација-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ез директног контакта између бактерија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02" name="Picture 7" descr="fig2"/>
          <p:cNvPicPr/>
          <p:nvPr/>
        </p:nvPicPr>
        <p:blipFill>
          <a:blip r:embed="rId1"/>
          <a:srcRect l="0" t="8862" r="0" b="3429"/>
          <a:stretch/>
        </p:blipFill>
        <p:spPr>
          <a:xfrm>
            <a:off x="539640" y="2514600"/>
            <a:ext cx="77994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рансдукциј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ансвер генетичког материјала врши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бактериофаг</a:t>
            </a: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204" name="Object 16"/>
          <p:cNvGraphicFramePr/>
          <p:nvPr/>
        </p:nvGraphicFramePr>
        <p:xfrm>
          <a:off x="1116000" y="2276640"/>
          <a:ext cx="667548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76640"/>
                    <a:ext cx="667548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укариоте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кросинг-ове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rossing- over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978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осинг-овер је 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змена генетичког материјала међу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омо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ромо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осинг овер може да буде симетричан (размена хомологих сегмената хомологих хромозома) и  асиметричан (размена нехомологих сегмената хомологих хромозом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шава се у мејози,  у полним ћелијама 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ејотички c.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  и у  митози, у телесним ћелијама (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митотички c.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Ryzen</cp:lastModifiedBy>
  <dcterms:modified xsi:type="dcterms:W3CDTF">2022-01-18T12:07:57Z</dcterms:modified>
  <cp:revision>206</cp:revision>
  <dc:subject/>
  <dc:title>MUTACIJE GENA</dc:title>
</cp:coreProperties>
</file>